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ffcc1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E0CD-E292-4C7A-B433-4946AC81D04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Community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volve community to understand what is happening with the environment around the stre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CE3D-2677-43B4-942C-A99AEC5C1E94}" type="slidenum">
              <a:rPr b="0" lang="en-NZ" sz="1200" spc="-1" strike="noStrike">
                <a:solidFill>
                  <a:srgbClr val="bffcc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E2D8-395E-44F9-A46A-6333D85CEDE8}" type="slidenum">
              <a:rPr b="0" lang="en-NZ" sz="1200" spc="-1" strike="noStrike">
                <a:solidFill>
                  <a:srgbClr val="bffcc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FE3-2444-453D-A00B-A64AA5AD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CBD-1B7B-404E-A677-6631DCB5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191-95D1-4F2C-A50A-A56D2C4F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88D-181D-4B21-AE22-DE92FFD0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F8AA-27F2-4824-94B6-2D9D18CA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8502-B5D0-4162-AA67-FC1A9526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7215-E5E6-4959-BEA5-71F28982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4745-B0DB-4E91-92AD-CA7AD45A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4FF1-386A-43D5-A6D6-5A92CF4C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6985-8DEA-4112-A399-25C38C76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5F63-D874-4003-A703-3E6F173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202-14A1-43EB-8E0B-1BECF0D4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EA24-272B-496D-9AB3-0628A22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61CF-85C5-4064-A05F-522AA3D2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F413-686E-4A45-AEF2-734B9DE4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3F52-E3C8-4EBC-B93E-964BD3C2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E9F9-DDBD-475E-88C4-523CD717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518-C665-47D9-B152-F2A05F07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95B-267D-45E7-A7A3-8AB8AF92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4CF-B098-4C34-8EB1-9CC854F1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4BC-209A-4CD6-83A9-CB6562D7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C30-860B-464C-AB74-3FD6AAD9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13C-1E93-439C-813C-E6CBF8D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F2C-AB27-48B2-BB2F-5683C08F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ffcc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bffcc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b98d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b98d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cb98d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8FF6-EBB4-4340-939A-1FED09CFA2D0}" type="slidenum">
              <a:rPr b="0" lang="en-NZ" sz="1200" spc="-1" strike="noStrike">
                <a:solidFill>
                  <a:srgbClr val="8cb98d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ffcc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bffcc1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bffcc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bffcc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fcc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b98d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b98d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ffcc1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cb98d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A0DD-2289-40E8-815D-F97434C23031}" type="slidenum">
              <a:rPr b="0" lang="en-NZ" sz="1200" spc="-1" strike="noStrike">
                <a:solidFill>
                  <a:srgbClr val="8cb98d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7785360" cy="1693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300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By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Left4 Projec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Kevin, Lok ,Wilson ,David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Content Placeholder 3" descr="map2.bmp"/>
          <p:cNvPicPr/>
          <p:nvPr/>
        </p:nvPicPr>
        <p:blipFill>
          <a:blip r:embed="rId2"/>
          <a:stretch/>
        </p:blipFill>
        <p:spPr>
          <a:xfrm>
            <a:off x="1224000" y="2035080"/>
            <a:ext cx="6696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virtual Catchment with have scenarios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Users have to fix that scenario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E.g A spill of chemicals fell into the stream , how would you clean them? We will give them a preset tools to clean it up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ry and model it like some certain areas in Kaikorai valley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admin can add scenarios and modify them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 used Ffilmation isometric flash engine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maps are stored in XML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Uses a Map editor to add additional areas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Scenarios are stored in the database and loaded through xml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  <p:pic>
        <p:nvPicPr>
          <p:cNvPr id="114" name="Content Placeholder 5" descr="Virtual catchment..jpg"/>
          <p:cNvPicPr/>
          <p:nvPr/>
        </p:nvPicPr>
        <p:blipFill>
          <a:blip r:embed="rId2"/>
          <a:stretch/>
        </p:blipFill>
        <p:spPr>
          <a:xfrm>
            <a:off x="4572000" y="3857760"/>
            <a:ext cx="426096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2020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News and Events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ORC Credits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Permissions for adding stuff into the Catchment or virtual map (Security reasons)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A discussion board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Private messaging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ab navigation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2020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3" descr="discussionboards.bmp"/>
          <p:cNvPicPr/>
          <p:nvPr/>
        </p:nvPicPr>
        <p:blipFill>
          <a:blip r:embed="rId2"/>
          <a:stretch/>
        </p:blipFill>
        <p:spPr>
          <a:xfrm>
            <a:off x="1494000" y="1600200"/>
            <a:ext cx="6156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2020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 are using  the Drupal CMS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Drupal Modules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One built of the yahoo API for the tab browsing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Calender and events module 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Php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CSS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Content Placeholder 3" descr="tabdesign.bmp"/>
          <p:cNvPicPr/>
          <p:nvPr/>
        </p:nvPicPr>
        <p:blipFill>
          <a:blip r:embed="rId2"/>
          <a:stretch/>
        </p:blipFill>
        <p:spPr>
          <a:xfrm>
            <a:off x="1243080" y="1600200"/>
            <a:ext cx="6657840" cy="4708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 rot="833400">
            <a:off x="7013520" y="2127240"/>
            <a:ext cx="117360" cy="1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hat we want to do for 3</a:t>
            </a:r>
            <a:r>
              <a:rPr b="0" lang="en-NZ" sz="2800" spc="-1" strike="noStrike" baseline="30000">
                <a:solidFill>
                  <a:srgbClr val="bffcc1"/>
                </a:solidFill>
                <a:latin typeface="Book Antiqua"/>
              </a:rPr>
              <a:t>rd</a:t>
            </a: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 iteration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Virtual Catchmen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bsite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Integrating  Virtual Catchment , Virtual Stream into the content management system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" y="1600200"/>
          <a:ext cx="8229600" cy="2225520"/>
        </p:xfrm>
        <a:graphic>
          <a:graphicData uri="http://schemas.openxmlformats.org/drawingml/2006/table">
            <a:tbl>
              <a:tblPr/>
              <a:tblGrid>
                <a:gridCol w="1257480"/>
                <a:gridCol w="3429000"/>
                <a:gridCol w="3543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Date 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28.08.09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Website design and CSS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CMS Modules Developed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Virtual Catchment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Model the Kaikorai Catchment.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Event/Scenario System 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Sep – Oct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Users testing website  and VCS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Hosting of the Website and Database. We have to contact the ORC and they will organise a meeting with Intergen (A well known company) to host the website.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Testing by students  by Kaikorai Valley High school (Our client is a teacher at the school)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It’s a community web portal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o get Kaikorai community more involve with cleaning up the Kaikorai stream.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o provide a mapping utility for users too narrate  their ideas and how they feel about the stream through pictures and videos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o get people interacting with each other through  message boards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o teach users about the impact their daily lives have on the stream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26960" y="103320"/>
            <a:ext cx="8521920" cy="1439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client wanted a place where people around Kaikorai community could come and talk about their stories in the Kaikorai Catchment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client wanted to have the main focus to be  around Kaikorai Catchment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 client wanted to show how the community can interact with the stream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Content Management system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Why ?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So people can login and logout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Saving there Catchment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Virtual Map.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Why?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So people can see other people on the virtual Catchment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dvertise there business there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Show people who support sustainability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bffcc1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Virtual Catchment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Why?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A simulation on the Catchment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Situations “what could happen in the community”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bffcc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bffcc1"/>
                </a:solidFill>
                <a:latin typeface="Book Antiqua"/>
              </a:rPr>
              <a:t>Getting people involve in the environment </a:t>
            </a:r>
            <a:endParaRPr b="0" lang="en-US" sz="24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Provide a place for people to communicate through pictures videos and discussion boards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Monitor the river status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Interactive virtual catchment to help user understand impact on the environment of the river.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Provide a way to share the virtual catchment individuals make with other users.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 way to measure each users sustainable in their virtual catchment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 way to upload and download videos and pictures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 way to inform latest events and news on the web page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Account management provided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bffcc1"/>
                </a:solidFill>
                <a:latin typeface="Book Antiqua"/>
              </a:rPr>
              <a:t>Have usergroups </a:t>
            </a: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57200" y="1600200"/>
          <a:ext cx="8229600" cy="4581360"/>
        </p:xfrm>
        <a:graphic>
          <a:graphicData uri="http://schemas.openxmlformats.org/drawingml/2006/table">
            <a:tbl>
              <a:tblPr/>
              <a:tblGrid>
                <a:gridCol w="282888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Requirement 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bffcc1"/>
                          </a:solidFill>
                          <a:latin typeface="Book Antiqu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18720">
                      <a:solidFill>
                        <a:srgbClr val="bffcc1"/>
                      </a:solidFill>
                    </a:lnB>
                    <a:solidFill>
                      <a:srgbClr val="21872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Rewardable ORC credits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Give the site maintainers the ability to reward users actively helping the community and environment in Kaikorai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1872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Virtual map to display specific areas in the Kaikorai catchment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A map on the website with links to specific areas. eg: schools, events etc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Virtual catchment repository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way for users to upload and download videos and pictures that are to do with the kaikorai valley catchment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News and Events page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Display a news and events page to inform users of important information and events coming up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virtual catchment recreation area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A virtual catchment web application for users to change or add to the catchment and see the affect it may have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private messaging system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Allow users to message each other so they arn't publicly avaliable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discussion board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Give the ability for users to communicate and talk about their ideas to help the Kaikorai Valley Catchment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different layers of information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The website will need a way to educate users on natural history, maori history, scientific data etc. Away from the community part of the site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e8ed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Provide a platform for administrator to add and configure the virtual map.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200" spc="-1" strike="noStrike">
                          <a:solidFill>
                            <a:srgbClr val="21872d"/>
                          </a:solidFill>
                          <a:latin typeface="Book Antiqua"/>
                        </a:rPr>
                        <a:t>A website will be needed to create for admin use to change or add etc the information on virtual map</a:t>
                      </a:r>
                      <a:endParaRPr b="0" lang="en-US" sz="1200" spc="-1" strike="noStrike">
                        <a:solidFill>
                          <a:srgbClr val="bffcc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bffcc1"/>
                      </a:solidFill>
                    </a:lnL>
                    <a:lnR w="5760">
                      <a:solidFill>
                        <a:srgbClr val="bffcc1"/>
                      </a:solidFill>
                    </a:lnR>
                    <a:lnT w="5760">
                      <a:solidFill>
                        <a:srgbClr val="bffcc1"/>
                      </a:solidFill>
                    </a:lnT>
                    <a:lnB w="5760">
                      <a:solidFill>
                        <a:srgbClr val="bffcc1"/>
                      </a:solidFill>
                    </a:lnB>
                    <a:solidFill>
                      <a:srgbClr val="ccd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C:\Documents and Settings\FIRMIDM1\Desktop\L4p_dfd1.jpg"/>
          <p:cNvPicPr/>
          <p:nvPr/>
        </p:nvPicPr>
        <p:blipFill>
          <a:blip r:embed="rId2"/>
          <a:stretch/>
        </p:blipFill>
        <p:spPr>
          <a:xfrm>
            <a:off x="0" y="1214280"/>
            <a:ext cx="5857920" cy="563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:\My Documents\My Received Files\diagram.bmp"/>
          <p:cNvPicPr/>
          <p:nvPr/>
        </p:nvPicPr>
        <p:blipFill>
          <a:blip r:embed="rId3"/>
          <a:stretch/>
        </p:blipFill>
        <p:spPr>
          <a:xfrm>
            <a:off x="5357880" y="2571840"/>
            <a:ext cx="409572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hat we used to create the Virtual Map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 used  Google maps API ,XML ,PHP,MYSQL and Flash (action script 3)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is Application is based in flash and we use the Google maps API as a graphical background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We then used Php so the user can enter data into the database.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bbf6bd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ffcc1"/>
                </a:solidFill>
                <a:latin typeface="Book Antiqua"/>
              </a:rPr>
              <a:t>Then When loading up the Virtual Map we load data from the database using My Sql - PHP – XML to FLASH </a:t>
            </a:r>
            <a:endParaRPr b="0" lang="en-US" sz="2800" spc="-1" strike="noStrike">
              <a:solidFill>
                <a:srgbClr val="bffcc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23:57:32Z</dcterms:created>
  <dc:creator>FIRMIDM1</dc:creator>
  <dc:description/>
  <dc:language>en-US</dc:language>
  <cp:lastModifiedBy>FIRMIDM1</cp:lastModifiedBy>
  <dcterms:modified xsi:type="dcterms:W3CDTF">2009-08-10T05:15:41Z</dcterms:modified>
  <cp:revision>1492</cp:revision>
  <dc:subject/>
  <dc:title>Kaikorai Catchment</dc:title>
</cp:coreProperties>
</file>